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486-E7AB-4184-8C15-3558468D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41A-E85D-4E68-BFC2-5BDC4DE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7B7-7C82-4EBC-B2F0-7EFA7A27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88-204D-4A09-982A-66C19347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02DF-3355-4685-8B87-ECBF6E10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702-82AD-4D39-A284-EDB817E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87E-51F6-4030-B603-5B3EFDA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B46-B091-4024-9881-9827D9D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1AE9-6B71-4D2B-A070-BDD8819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F105-255F-49DB-8834-4BC140E1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B97E-DAFC-4825-AAF6-415E391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9AF-BAC2-48C7-BE81-4693131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3F0A-1F0F-4DFB-9766-E3EEB6B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9CB8-F4D0-4389-B4DC-4110252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8B06-CB6E-4BF6-82CA-83FA3D46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BF48-BB51-4E2D-B3B5-B40534CB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12A6-8687-40E1-9962-81244933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C1D2-9E5F-4C69-9CFE-03C809D8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AAE0-A14A-474A-9E8B-8D7A9EF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4AF2-4199-48D6-B964-C316B8D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6869-66ED-4DA5-979B-B26DA6D3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BC2B-87FB-4F98-A19D-7AE1651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D28-540E-4188-91DA-92B0DAA9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AF91-F23D-46BB-BFD2-22532EBE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0909-04C9-42FB-8ED4-09C50FB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A3C2-E149-4B08-8F73-C001917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59DA-2ED3-4DE1-98F4-BE074A0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B00E-B6E4-448C-BECB-02D813FB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032A-1753-4DB0-9FFE-90BF5C78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DE14-A624-42CE-9856-F9D8A5D2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7AD-AE46-4DBC-9EB8-E61A6C79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DCF-597C-4494-99FF-17EC7F9F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099-3BC6-4EA6-BD93-36AAAFC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570-0230-497F-871D-7504B75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CF9-65A5-48A2-89D9-DF15DB9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C9A-0CE0-450C-82ED-D430E79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5E3-6E27-4120-8CBA-743BEF640E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9E0-8CED-48F8-A26A-F4BDFE5784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6A12-05E3-480F-B3DA-2595F6596CA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إلهي رفعت إليك يد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9880" y="0"/>
            <a:ext cx="79232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ـداءِ العالـ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الحق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75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هذا جسدُكَ هذا دمُكَ الطاهر فاغسلْ، فاغسلْ يا ربّ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خطايا العالم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لْتَحْيَ بروحِكَ أَنْفُسُ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836640"/>
            <a:ext cx="45720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8-01T19:00:06Z</dcterms:modified>
  <cp:revision>10</cp:revision>
  <dc:subject/>
  <dc:title>PowerPoint Presentation</dc:title>
</cp:coreProperties>
</file>